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185-2F2A-45A6-81F5-AC68A716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49D-8EAA-4870-BCE6-B7F3211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1F9-6C90-47EA-8B91-41C79814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330-E97D-460F-ABFA-EABE150A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22D-A96C-49B1-8033-EBDEAAEE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DA1-B19A-4770-9CAE-DFA5A5D7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E68-5C3D-4D4A-AD6C-B9C92AE5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110-FFEE-488E-8393-26AAC459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F41-A5F8-4BD2-B0DC-9FF322FA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98F-F18B-4FA5-ADE7-C224046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31F-4ED1-43E6-A791-1DA6D84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C3C-425F-4850-A130-D7B44BE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8416-2943-491E-A02D-5E5027B3E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eb.mit.edu/invent/iow/monopol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685800"/>
            <a:ext cx="5867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08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onopoly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50292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ee Gill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September15 ,  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371600" cy="117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95480" y="5334120"/>
            <a:ext cx="1266840" cy="11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13045" t="0" r="8701" b="0"/>
          <a:stretch/>
        </p:blipFill>
        <p:spPr>
          <a:xfrm>
            <a:off x="3733920" y="4191120"/>
            <a:ext cx="1371600" cy="167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411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Charles D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0"/>
            <a:ext cx="18288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r, Far awa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11, 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73392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2.96296E-006 C -0.01719 0.01551 -0.04705 0.01088 -0.06476 0.01181 C -0.08229 0.0169 -0.06198 0.00926 -0.07795 0.02153 C -0.08611 0.02778 -0.09983 0.03287 -0.10885 0.03542 C -0.14531 0.03426 -0.16667 0.03195 -0.19861 0.02755 C -0.20608 0.02407 -0.20625 0.01597 -0.21024 0.00787 C -0.21181 -0.000229999999999999 -0.21285 -0.01898 -0.20885 -0.02546 C -0.20781 -0.02708 -0.2059 -0.02662 -0.20434 -0.02731 C -0.18472 -0.04514 -0.1566 -0.04028 -0.13524 -0.0412 C -0.11632 -0.04514 -0.11892 -0.04537 -0.08819 -0.0412 C -0.08455 -0.04074 -0.0816 -0.03634 -0.07795 -0.03518 C -0.06493 -0.03125 -0.05052 -0.02824 -0.03819 -0.02153 C -0.02639 -0.01505 -0.03819 -0.02083 -0.02639 -0.00972 C -0.0217 -0.00532 -0.01163 -0.00393 -0.0059 -0.00185 C 0.00417 0.00718 -0.00035 0.00463 0.00729 0.00787 C 0.01406 0.0169 0.01806 0.01389 0.02639 0.01782 C 0.04253 0.01713 0.05885 0.0169 0.075 0.01574 C 0.08056 0.01528 0.08698 0.00949 0.09271 0.00787 C 0.0941 0.00602 0.09531 0.0037 0.09705 0.00208 C 0.09826 0.00093 0.10122 0.00208 0.10139 -2.96296E-006 C 0.10382 -0.02338 0.1033 -0.02778 0.09115 -0.03333 C 0.075 -0.03241 0.05712 -0.03912 0.04271 -0.0294 C 0.02552 -0.01805 0.05087 -0.02731 0.03229 -0.02153 C 0.02292 -0.01528 0.01476 -0.01366 0.00434 -0.0118 C -0.00295 -0.00833 -0.00451 -0.00764 -0.01024 -2.96296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Monopoly game"/>
          <p:cNvPicPr/>
          <p:nvPr/>
        </p:nvPicPr>
        <p:blipFill>
          <a:blip r:embed="rId1"/>
          <a:srcRect l="0" t="2182" r="4168" b="4365"/>
          <a:stretch/>
        </p:blipFill>
        <p:spPr>
          <a:xfrm>
            <a:off x="0" y="685800"/>
            <a:ext cx="914400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495288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pol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onopoly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105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019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ly was invented by Charles D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88889E-006 C -0.00017 0.01365 0.00885 0.21921 -0.00451 0.15879 C -0.00521 0.15555 -0.00486 0.15208 -0.0059 0.14907 C -0.00677 0.14652 -0.00885 0.14513 -0.01042 0.14328 C -0.01163 0.13587 -0.01302 0.1287 -0.01476 0.12152 C -0.0158 0.07685 -0.02083 -0.00417 -0.01042 -0.04908 C -0.00851 -0.0882 -0.00885 -0.12663 -0.00156 -0.16459 C 2.7777800000006E-007 -0.18172 0.00069 -0.19885 0.00295 -0.21575 C 2.77777999999843E-007 -0.15788 -0.00521 -0.1007 -0.00885 -0.04306 C -0.00833 0.00671 -0.00833 0.05601 -0.00747 0.10601 C -0.00729 0.11064 -0.00556 0.11504 -0.00451 0.11967 C -0.00417 0.12175 -0.00295 0.12754 -0.00295 0.12546 C -0.00243 0.09212 -0.00295 0.05856 -0.00295 0.02546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on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was invented in 19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at first sold for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 was the best selling board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w international championships, clubs, ongoing games on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Monopoly is played by a half of a billion people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ONOPOLY Deal Card Game"/>
          <p:cNvPicPr/>
          <p:nvPr/>
        </p:nvPicPr>
        <p:blipFill>
          <a:blip r:embed="rId1"/>
          <a:stretch/>
        </p:blipFill>
        <p:spPr>
          <a:xfrm>
            <a:off x="7086600" y="30492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1752480"/>
            <a:ext cx="1905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bro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nopoly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20/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hasbro.com/monopoly/en_U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cc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harles D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row lived in German town, Pennsylv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unemployed when he created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 not only friends but stores by Philadelphia were claiming copies of Darrow’s game Monop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row could no longer handle the demand so 1934 he gave the company to the Parkers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retired a millionaire in 1935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7:45Z</dcterms:created>
  <dc:creator>install</dc:creator>
  <dc:description/>
  <dc:language>en-US</dc:language>
  <cp:lastModifiedBy>install</cp:lastModifiedBy>
  <dcterms:modified xsi:type="dcterms:W3CDTF">2011-09-26T13:56:41Z</dcterms:modified>
  <cp:revision>12</cp:revision>
  <dc:subject/>
  <dc:title>Slide 1</dc:title>
</cp:coreProperties>
</file>